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79D4-A4EB-41B1-9E2E-0DD5DEED4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5DD7-1E81-444C-8F59-C5AEE1EA8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8C6D-8409-41C6-8E70-F19883F5A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D6EC-796F-408D-A6C8-4F74E0BEA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C63E-9D9D-4DD3-9883-62C51A67C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1168-4A5C-4BA2-B416-0BAB1CE38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750C-2754-468F-9493-21265116A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6034-03AC-4BFE-8CC6-15BE28F77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661F-661E-42DD-AB38-305662424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72C1-CA20-44BE-9346-6DAFD05D6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CA91-57D2-4083-B469-9077D2956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3ABC-6298-45E0-9E07-E054B0A1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0CCAB-8FB6-477F-B33D-625F92AA82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440" y="230040"/>
            <a:ext cx="9144000" cy="16765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2d050"/>
                </a:solidFill>
                <a:latin typeface="Arial Black"/>
              </a:rPr>
              <a:t>МИНИCТЕРСТВО АНТИМОНОПОЛЬНОГО РЕГУЛИРОВ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2d050"/>
                </a:solidFill>
                <a:latin typeface="Arial Black"/>
              </a:rPr>
              <a:t>И ТОРГОВЛИ РЕСПУБЛИКИ БЕЛАРУС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142920" y="4267080"/>
            <a:ext cx="8862840" cy="2133720"/>
          </a:xfrm>
          <a:prstGeom prst="rect">
            <a:avLst/>
          </a:prstGeom>
          <a:gradFill rotWithShape="0">
            <a:gsLst>
              <a:gs pos="0">
                <a:srgbClr val="8cadea"/>
              </a:gs>
              <a:gs pos="100000">
                <a:srgbClr val="dee6f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ahoma"/>
                <a:ea typeface="Tahoma"/>
              </a:rPr>
              <a:t>Порядок действий субъекта хозяйствования при открыт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ahoma"/>
                <a:ea typeface="Tahoma"/>
              </a:rPr>
              <a:t>объекта бытового обслуживания потребителей в соответств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ahoma"/>
                <a:ea typeface="Tahoma"/>
              </a:rPr>
              <a:t>с Декретом Президента Республики Беларусь от 23 ноября 2017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ahoma"/>
                <a:ea typeface="Tahoma"/>
              </a:rPr>
              <a:t>№ </a:t>
            </a:r>
            <a:r>
              <a:rPr b="1" lang="ru-RU" sz="1800" spc="-1" strike="noStrike">
                <a:solidFill>
                  <a:srgbClr val="7030a0"/>
                </a:solidFill>
                <a:latin typeface="Tahoma"/>
                <a:ea typeface="Tahoma"/>
              </a:rPr>
              <a:t>7 «О развитии предпринимательств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Прямоугольник 1" descr=""/>
          <p:cNvPicPr/>
          <p:nvPr/>
        </p:nvPicPr>
        <p:blipFill>
          <a:blip r:embed="rId2"/>
          <a:stretch/>
        </p:blipFill>
        <p:spPr>
          <a:xfrm>
            <a:off x="1030320" y="1932120"/>
            <a:ext cx="7076880" cy="20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ounded Rectangle 3"/>
          <p:cNvSpPr/>
          <p:nvPr/>
        </p:nvSpPr>
        <p:spPr>
          <a:xfrm>
            <a:off x="0" y="338040"/>
            <a:ext cx="8891640" cy="118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"/>
          <p:cNvSpPr/>
          <p:nvPr/>
        </p:nvSpPr>
        <p:spPr>
          <a:xfrm>
            <a:off x="0" y="0"/>
            <a:ext cx="163440" cy="358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000" rIns="81000" tIns="40320" bIns="403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297000" y="338040"/>
            <a:ext cx="8638920" cy="6343920"/>
          </a:xfrm>
          <a:prstGeom prst="rect">
            <a:avLst/>
          </a:prstGeom>
          <a:noFill/>
          <a:ln w="9360">
            <a:solidFill>
              <a:srgbClr val="9ed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40680" bIns="406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ребования к осуществлению бытового обслуживания установлены постановлением Совета Министров Республики Беларусь от 14 декабря 2004 № 1590 «Об утверждении Правил бытового обслуживания потребителей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ействия субъекта хозяйствования при открытии объекта бытового обслуживания населе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360360" algn="just">
              <a:lnSpc>
                <a:spcPct val="100000"/>
              </a:lnSpc>
              <a:buSzPct val="102837"/>
              <a:buBlip>
                <a:blip r:embed="rId2"/>
              </a:buBlip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.</a:t>
            </a: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Определить месторасположение объекта бытового обслуживания (выбор помещения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360360" algn="just">
              <a:lnSpc>
                <a:spcPct val="100000"/>
              </a:lnSpc>
              <a:buSzPct val="102837"/>
              <a:buBlip>
                <a:blip r:embed="rId3"/>
              </a:buBlip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.</a:t>
            </a: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Получить (приобрести) право на владение (пользование) помещени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мещения могут приобретаться в собственность, могут быть взяты в аренду или в безвозмездное пользова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360360" algn="just">
              <a:lnSpc>
                <a:spcPct val="100000"/>
              </a:lnSpc>
              <a:buSzPct val="102837"/>
              <a:buBlip>
                <a:blip r:embed="rId4"/>
              </a:buBlip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.</a:t>
            </a: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Осуществить переустройство (перепланировку, переоборудование и т.п.) помещения под объект бытового обслуживания (при необходимости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360360" algn="just">
              <a:lnSpc>
                <a:spcPct val="100000"/>
              </a:lnSpc>
              <a:buSzPct val="102837"/>
              <a:buBlip>
                <a:blip r:embed="rId5"/>
              </a:buBlip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4. Укомплектовать объект бытового обслуживания необходимым  оборудованием, в том числе кассовы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правоч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397"/>
              </a:lnSpc>
              <a:spcAft>
                <a:spcPts val="601"/>
              </a:spcAft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ребования по использованию кассового оборудования установлены постановлением Совета Министров Республики Беларусь и Национального банка Республики Беларусь от 6 июля 2011 г. № 924/16 «Об использовании кассового оборудования, платежных терминалов, автоматических электронных аппаратов, торговых автоматов и о приеме наличных денежных средств, банковских платежных карточек при продаже товаров, выполнении работ, оказании услуг, осуществлении деятельности в сфере игорного бизнеса, лотерейной деятельности, проведении электронных интерактивных игр и выпуске в обращение кассового оборудования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360360" algn="just">
              <a:lnSpc>
                <a:spcPct val="100000"/>
              </a:lnSpc>
              <a:buSzPct val="102837"/>
              <a:buBlip>
                <a:blip r:embed="rId6"/>
              </a:buBlip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5.</a:t>
            </a: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Для приемки объекта в эксплуатацию обратиться за разъяснениями и получить заключение (если оно предусмотрено законодательством об административных процедурах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полномоченных государственных органов и учреждений, осуществляющих государственный санитарный надзор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рганов государственного пожарного надзора, внутренних дел (при необходимо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ерриториальных органов Министерства природных ресурсов и охраны окружающей сре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ounded Rectangle 3"/>
          <p:cNvSpPr/>
          <p:nvPr/>
        </p:nvSpPr>
        <p:spPr>
          <a:xfrm>
            <a:off x="0" y="338040"/>
            <a:ext cx="8891640" cy="118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"/>
          <p:cNvSpPr/>
          <p:nvPr/>
        </p:nvSpPr>
        <p:spPr>
          <a:xfrm>
            <a:off x="0" y="0"/>
            <a:ext cx="163440" cy="358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000" rIns="81000" tIns="40320" bIns="403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7"/>
          <p:cNvSpPr/>
          <p:nvPr/>
        </p:nvSpPr>
        <p:spPr>
          <a:xfrm>
            <a:off x="268200" y="609480"/>
            <a:ext cx="8639280" cy="5162760"/>
          </a:xfrm>
          <a:prstGeom prst="rect">
            <a:avLst/>
          </a:prstGeom>
          <a:noFill/>
          <a:ln w="9360">
            <a:solidFill>
              <a:srgbClr val="9ed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40680" bIns="40680" anchor="t">
            <a:spAutoFit/>
          </a:bodyPr>
          <a:p>
            <a:pPr indent="360360" algn="just">
              <a:lnSpc>
                <a:spcPct val="100000"/>
              </a:lnSpc>
              <a:buSzPct val="102837"/>
              <a:buBlip>
                <a:blip r:embed="rId2"/>
              </a:buBlip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6.</a:t>
            </a: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Разместить средства наружной рекламы (при необходимости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ребования по размещению средств наружной рекламы установлены постановлением Совета Министров Республики Беларусь от 12 ноября 2007 № 1497 «О реализации Закона Республики Беларусь «О рекламе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360360" algn="just">
              <a:lnSpc>
                <a:spcPct val="100000"/>
              </a:lnSpc>
              <a:buSzPct val="102837"/>
              <a:buBlip>
                <a:blip r:embed="rId3"/>
              </a:buBlip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7. </a:t>
            </a: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иобрести книгу замечаний и предлож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правочн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500"/>
              </a:lnSpc>
              <a:spcAft>
                <a:spcPts val="601"/>
              </a:spcAft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нига замечаний и предложений выдается республиканским унитарным предприятием «Издательство «Белбланкавыд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360360" algn="just">
              <a:lnSpc>
                <a:spcPct val="100000"/>
              </a:lnSpc>
              <a:buSzPct val="102837"/>
              <a:buBlip>
                <a:blip r:embed="rId4"/>
              </a:buBlip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8. </a:t>
            </a: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иобрести и зарегистрировать книгу учета провер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 соответствии с Указом Президента Республики Беларусь от 16 октября 2009 г. № 510</a:t>
            </a:r>
            <a:br>
              <a:rPr sz="1600"/>
            </a:b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«О совершенствовании контрольной (надзорной) деятельности в Республике Беларусь» субъекты хозяйствования должны иметь книгу учета проверок, которая должна быть зарегистрирована в налоговом орган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иобрести книгу учета проверок можно у юридических лиц (индивидуальных предпринимателей), осуществляющих их реализацию на основании заключенных договоров с республиканским унитарным предприятием «Информационно-издательский центр по налогам и сборам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360360" algn="just">
              <a:lnSpc>
                <a:spcPct val="100000"/>
              </a:lnSpc>
              <a:buSzPct val="102837"/>
              <a:buBlip>
                <a:blip r:embed="rId5"/>
              </a:buBlip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9.</a:t>
            </a: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Подобрать и оформить на работу сотрудни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360360" algn="just">
              <a:lnSpc>
                <a:spcPct val="100000"/>
              </a:lnSpc>
              <a:buSzPct val="102837"/>
              <a:buBlip>
                <a:blip r:embed="rId6"/>
              </a:buBlip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0. </a:t>
            </a: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пределить режим работы объекта бытового обслуживания. Согласовать режим работы объекта с местным исполнительным и распорядительным органом по месту нахождения объекта в случае, когда он определен после 23.00 и до 7.0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ounded Rectangle 3"/>
          <p:cNvSpPr/>
          <p:nvPr/>
        </p:nvSpPr>
        <p:spPr>
          <a:xfrm>
            <a:off x="0" y="338040"/>
            <a:ext cx="8891640" cy="118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"/>
          <p:cNvSpPr/>
          <p:nvPr/>
        </p:nvSpPr>
        <p:spPr>
          <a:xfrm>
            <a:off x="0" y="0"/>
            <a:ext cx="163440" cy="358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000" rIns="81000" tIns="40320" bIns="403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268200" y="609480"/>
            <a:ext cx="8639280" cy="3490920"/>
          </a:xfrm>
          <a:prstGeom prst="rect">
            <a:avLst/>
          </a:prstGeom>
          <a:noFill/>
          <a:ln w="9360">
            <a:solidFill>
              <a:srgbClr val="9ed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40680" bIns="40680" anchor="t">
            <a:spAutoFit/>
          </a:bodyPr>
          <a:p>
            <a:pPr indent="360360" algn="just">
              <a:lnSpc>
                <a:spcPct val="100000"/>
              </a:lnSpc>
              <a:buSzPct val="102837"/>
              <a:buBlip>
                <a:blip r:embed="rId2"/>
              </a:buBlip>
              <a:tabLst>
                <a:tab algn="l" pos="9216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1.</a:t>
            </a: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Самостоятельно определить порядок оформления заказов на бытовые услуги и учета материалов, используемых при их оказании (за исключением бытовых услуг по химической чистке, окраске и (или) интенсификации цвета изделий, в области производства ювелирных изделий и аналогичной продукции, по ремонту ювелирных изделий, техническому обслуживанию и ремонту механических транспортных средств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360360" algn="just">
              <a:lnSpc>
                <a:spcPct val="100000"/>
              </a:lnSpc>
              <a:buSzPct val="102837"/>
              <a:buBlip>
                <a:blip r:embed="rId3"/>
              </a:buBlip>
              <a:tabLst>
                <a:tab algn="l" pos="9216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2.</a:t>
            </a: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Оформить информацию для потребител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360360" algn="just">
              <a:lnSpc>
                <a:spcPct val="100000"/>
              </a:lnSpc>
              <a:buSzPct val="102837"/>
              <a:buBlip>
                <a:blip r:embed="rId4"/>
              </a:buBlip>
              <a:tabLst>
                <a:tab algn="l" pos="9216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3.</a:t>
            </a: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Направить уведомление в местный исполнительный и распорядительный орган о начале осуществления определенного вида бытовых услу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216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правоч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500"/>
              </a:lnSpc>
              <a:tabLst>
                <a:tab algn="l" pos="0"/>
                <a:tab algn="l" pos="9216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казание услуг по ремонту и техническому обслуживанию транспортных средств населению относится к бытовым услугам. Порядок действий субъекта хозяйствования в целях предоставления данного вида услуг аналогичен вышеуказанным рекомендациям. При этом субъект хозяйствования вправе использовать гараж в качестве мастерской для оказания услуг по техническому обслуживанию и ремонту транспортных средств без согласия общего собрания членов (собрания уполномоченных членов) гаражного кооперати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к</dc:creator>
  <dc:description/>
  <dc:language>en-US</dc:language>
  <cp:lastModifiedBy>Исакова Галина Владимировна</cp:lastModifiedBy>
  <dcterms:modified xsi:type="dcterms:W3CDTF">2018-02-20T13:21:45Z</dcterms:modified>
  <cp:revision>28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