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B5C-F676-482C-81BD-797FA32D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34F-9793-4F3D-A351-518C5108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F3B-F51B-4FDF-B288-0ECCFECF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62F-6794-46EC-AAC9-D7028D83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5F51-F580-4B02-A940-740B6D58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7D6D-1A29-4E97-8995-3B1A208A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51B5-C75A-4F43-BECC-511FEAD4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BA46-DC6F-4A4A-9888-DDE7ED9B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CDF3-ED58-437B-95D7-106EA7E1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138E-0055-4F34-A9F7-03218C34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F52F-C92F-4AC4-B7ED-B20293CA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D42-4542-4B7E-8176-9B424299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B8EC-315E-4C0F-A396-6BB1759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C1FC-37E4-4761-A40A-4F28EDDD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BD19-5EC1-494A-849B-4FAB206A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2F36-011B-44FA-ACFE-6F6C45AE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850E-2FE9-496F-948C-E9AF52D8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9C86-2779-4604-833B-296CF1D7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A50B-2535-422A-B955-9A484EC3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5E4F-C8C5-4876-AE8C-0AB9C38F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8D23-21C5-421D-A930-30AD6656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3DEF-B2A9-412E-8444-E1DAD9E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2AB-38DB-4D70-9F5E-BE5B3686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8484-B368-4D31-8E42-948D0A6A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06C2-FE12-4BD0-BD24-F76D06C5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7A8D-66D6-41C3-8A52-17C14A61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C081-52D8-41F6-9826-056B30E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DFE2-839F-4D10-93A1-1AEA4A63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2F05-4E9A-4F25-B91D-2839A3E4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7EEF-1A01-42D2-9F47-EC144609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A2E90-6BE5-462A-A934-1589EFBE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7DA9-B3CF-4634-849A-F97E24D1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8FFC4-6632-48CF-A21C-B6D7C751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722-4EED-4D96-A85C-0D59ADD1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6D84-F7AF-437D-93AE-63671E60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FB73C-AD52-4FB2-8735-DDBD0847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1156-3B1A-4ABE-8505-94047A02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EF87C-D0AE-4FF9-9666-387C0E03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5255C-62D4-4A4B-BF22-8206189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72D93-9332-4036-8962-3D9187D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7638C-A796-44A9-BA6F-3676517D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B161-A57E-4206-830E-02671FEC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B343-AA8F-487F-9CDF-25DB2268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EB6AF-BD21-4927-97DB-6A848E4B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EB2-8D61-4BA5-8426-023CCF49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D3694-48F4-4807-AF61-E848B6EF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95326-DCC5-4100-89C0-04E52A30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288D1-8E1E-4CB7-ADF8-1D458615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680C-2BE4-4AFA-B2C2-8E1431CB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98822-1366-4DFF-804E-FE6A43C6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F42EA-492D-4BD8-8A15-6DD368F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A4B2-51D2-4850-867C-AD602464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1E8CE-D376-4161-8E81-CF565DEE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87A4-93C5-4BC5-A8DB-AE909F0A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A4B31-1EFA-48C0-B4BA-F3F3E29F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AE1-F926-4139-B3E3-4A72D84A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552E9-743E-4F3B-BE58-CC514AF3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02AFA-1A2E-476E-8615-F2F8327B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0E77-7E2F-4A58-B18D-7A4C8A0C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4F385-4814-410C-AD96-5FBA5D7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3403A-F418-413C-83E5-F1C5C392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94A3-027B-4AFD-B874-940D36DF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CE480-188D-418B-BA85-1720BDE8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F41D2-E23F-4F27-8CEE-2553AC51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E8E6-8682-4599-BC80-D8E1AE7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076B2-F14B-4301-AD83-03447D70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B40-81DF-4BE9-AA2B-7CB7225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7F86A-BEF9-499B-9621-620C718D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2B0F3-C6CD-4BCD-B234-057B02C6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AD2A4-1604-4EC1-B32A-411E43DD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7B03C-584C-4361-AECF-EF2089F6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9E8E6-7322-4C89-B23E-C4A5E621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9E968-065E-417C-8A47-2D9AEF80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7940F-0CC8-47C4-87F0-07E026A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C9489-4CC9-4B7A-8616-44173C4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64277-D7C2-4CFD-8A70-B6DE4C2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3A01F-5FE5-4146-9E19-60EA4C43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62A-1F61-472B-9DD9-F592435A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10166-84B2-43BD-8EF8-4B43AC01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FF079-F9F6-401F-9023-2985F5DF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2CEA6-3628-433A-8B3D-E144F710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1DD1A-A1EF-43CA-947D-B39709C4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9C0F9-E936-42FC-B68F-1577690C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608-3A2A-4452-8327-ED953C1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84F9-63E3-44FB-A1DF-9A67EA66E1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D47C-88B6-4999-B4F3-D2BCF1F2605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7CE9-73AD-4620-BF9F-4FF879F42F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4B16-3821-46F0-979E-9F42AA650D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136B-B8CE-4A4F-9021-4B1B198659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EE49-45E9-46DB-8781-D4728C04518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C76E-9981-4AF5-AE96-F562C14979CB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Объект 4" descr=""/>
          <p:cNvPicPr/>
          <p:nvPr/>
        </p:nvPicPr>
        <p:blipFill>
          <a:blip r:embed="rId1"/>
          <a:stretch/>
        </p:blipFill>
        <p:spPr>
          <a:xfrm>
            <a:off x="376200" y="26370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333" name="Объект 5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6"/>
          <p:cNvSpPr/>
          <p:nvPr/>
        </p:nvSpPr>
        <p:spPr>
          <a:xfrm>
            <a:off x="4716360" y="1413000"/>
            <a:ext cx="3959280" cy="86364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АО «Торфопредприятие Днепровское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Прямоугольник 9"/>
          <p:cNvSpPr/>
          <p:nvPr/>
        </p:nvSpPr>
        <p:spPr>
          <a:xfrm>
            <a:off x="468360" y="1413000"/>
            <a:ext cx="3959280" cy="86364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рониновское лесничество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Объект 4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37" name="Объект 5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4038840" cy="277020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6"/>
          <p:cNvSpPr/>
          <p:nvPr/>
        </p:nvSpPr>
        <p:spPr>
          <a:xfrm>
            <a:off x="395280" y="1700280"/>
            <a:ext cx="4105440" cy="10810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Животноводческий комплекс «Днепр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Прямоугольник 7"/>
          <p:cNvSpPr/>
          <p:nvPr/>
        </p:nvSpPr>
        <p:spPr>
          <a:xfrm>
            <a:off x="4716360" y="1700280"/>
            <a:ext cx="4032360" cy="10810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ашинный двор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26960" y="268200"/>
            <a:ext cx="8375760" cy="1395360"/>
          </a:xfrm>
          <a:prstGeom prst="rect">
            <a:avLst/>
          </a:prstGeom>
          <a:ln w="0">
            <a:noFill/>
          </a:ln>
        </p:spPr>
      </p:pic>
      <p:pic>
        <p:nvPicPr>
          <p:cNvPr id="341" name="Объект 4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7"/>
          <p:cNvSpPr/>
          <p:nvPr/>
        </p:nvSpPr>
        <p:spPr>
          <a:xfrm>
            <a:off x="539640" y="1946160"/>
            <a:ext cx="3600720" cy="79236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«Елки-палки» д.Ворони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3" name="Объект 9" descr=""/>
          <p:cNvPicPr/>
          <p:nvPr/>
        </p:nvPicPr>
        <p:blipFill>
          <a:blip r:embed="rId3"/>
          <a:stretch/>
        </p:blipFill>
        <p:spPr>
          <a:xfrm>
            <a:off x="4643280" y="292428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4"/>
          <a:stretch/>
        </p:blipFill>
        <p:spPr>
          <a:xfrm>
            <a:off x="4643280" y="1946160"/>
            <a:ext cx="405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АО «Следюки» – 114  человек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АО «Воронино» (производственный участок д.Воронино) – 36 человек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АО «Торфопредприятие Днепровское» – 198 человек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рониновское лесничество – 30 человек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рганизации и учреждения социально-культурной сферы - 296 человека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работают за пределами сельсовета – 236 человек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работают на сезонных работах – 375 человек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 работают – 9 человек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125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В 2019 году количество плательщиков налога на недвижимость и налога на землю составляет 6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40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человек, из которых постоянно проживают на территории сельсовета –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456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, имеют дачи – 1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84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.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609480" y="1987560"/>
            <a:ext cx="8064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437680" cy="14684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 населением от 500 до 1000 жителей – 4 (агрогородки Следюки и Грудиновка, д.Годылёво, д.Воронино)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 населением до 100 жителей – 8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меется 1400 хозяйств. Всего на территории сельсовета проживает 2977 человек, из которых граждан трудоспособного возраста –1644 человека, пенсионеров – 913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26960" y="219240"/>
            <a:ext cx="8388360" cy="1603080"/>
          </a:xfrm>
          <a:prstGeom prst="rect">
            <a:avLst/>
          </a:prstGeom>
          <a:ln w="0">
            <a:noFill/>
          </a:ln>
        </p:spPr>
      </p:pic>
      <p:pic>
        <p:nvPicPr>
          <p:cNvPr id="305" name="Объект 4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06" name="Объект 5" descr=""/>
          <p:cNvPicPr/>
          <p:nvPr/>
        </p:nvPicPr>
        <p:blipFill>
          <a:blip r:embed="rId3"/>
          <a:stretch/>
        </p:blipFill>
        <p:spPr>
          <a:xfrm>
            <a:off x="4716360" y="306864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324000" y="2205000"/>
            <a:ext cx="4103640" cy="7192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УО «Следюковский УПК д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-БШ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4788000" y="2205000"/>
            <a:ext cx="3816360" cy="7192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УО «Годылёвский УПК д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-СШ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Объект 4" descr=""/>
          <p:cNvPicPr/>
          <p:nvPr/>
        </p:nvPicPr>
        <p:blipFill>
          <a:blip r:embed="rId1"/>
          <a:stretch/>
        </p:blipFill>
        <p:spPr>
          <a:xfrm>
            <a:off x="457200" y="2471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10" name="Объект 5" descr=""/>
          <p:cNvPicPr/>
          <p:nvPr/>
        </p:nvPicPr>
        <p:blipFill>
          <a:blip r:embed="rId2"/>
          <a:stretch/>
        </p:blipFill>
        <p:spPr>
          <a:xfrm>
            <a:off x="4648320" y="24717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7"/>
          <p:cNvSpPr/>
          <p:nvPr/>
        </p:nvSpPr>
        <p:spPr>
          <a:xfrm>
            <a:off x="395280" y="1628640"/>
            <a:ext cx="3960720" cy="7207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УО «Грудиновский УПК д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-СШ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Прямоугольник 8"/>
          <p:cNvSpPr/>
          <p:nvPr/>
        </p:nvSpPr>
        <p:spPr>
          <a:xfrm>
            <a:off x="4572000" y="1628640"/>
            <a:ext cx="4103640" cy="7207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УО «Ворониновский УПК д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/c-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Ш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4" name="Объект 3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15" name="Объект 4" descr=""/>
          <p:cNvPicPr/>
          <p:nvPr/>
        </p:nvPicPr>
        <p:blipFill>
          <a:blip r:embed="rId3"/>
          <a:stretch/>
        </p:blipFill>
        <p:spPr>
          <a:xfrm>
            <a:off x="4643280" y="321300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5"/>
          <p:cNvSpPr/>
          <p:nvPr/>
        </p:nvSpPr>
        <p:spPr>
          <a:xfrm>
            <a:off x="4716360" y="2349360"/>
            <a:ext cx="3888000" cy="6480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одылёвская сельская участковая больниц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Прямоугольник 6"/>
          <p:cNvSpPr/>
          <p:nvPr/>
        </p:nvSpPr>
        <p:spPr>
          <a:xfrm>
            <a:off x="539640" y="2349360"/>
            <a:ext cx="3888000" cy="6480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ледюковский ФАП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Объект 4" descr=""/>
          <p:cNvPicPr/>
          <p:nvPr/>
        </p:nvPicPr>
        <p:blipFill>
          <a:blip r:embed="rId1"/>
          <a:stretch/>
        </p:blipFill>
        <p:spPr>
          <a:xfrm>
            <a:off x="457200" y="2471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19" name="Объект 5" descr=""/>
          <p:cNvPicPr/>
          <p:nvPr/>
        </p:nvPicPr>
        <p:blipFill>
          <a:blip r:embed="rId2"/>
          <a:stretch/>
        </p:blipFill>
        <p:spPr>
          <a:xfrm>
            <a:off x="4648320" y="24717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6"/>
          <p:cNvSpPr/>
          <p:nvPr/>
        </p:nvSpPr>
        <p:spPr>
          <a:xfrm>
            <a:off x="468360" y="1413000"/>
            <a:ext cx="4032360" cy="7920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рудиновская врачебная амбулатори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Прямоугольник 7"/>
          <p:cNvSpPr/>
          <p:nvPr/>
        </p:nvSpPr>
        <p:spPr>
          <a:xfrm>
            <a:off x="4716360" y="1413000"/>
            <a:ext cx="3888000" cy="7920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рониновский ФАП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23" name="Объект 4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324" name="Объект 5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6"/>
          <p:cNvSpPr/>
          <p:nvPr/>
        </p:nvSpPr>
        <p:spPr>
          <a:xfrm>
            <a:off x="395280" y="2133720"/>
            <a:ext cx="4032360" cy="9349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рудиновский Центр культуры и творчеств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Прямоугольник 7"/>
          <p:cNvSpPr/>
          <p:nvPr/>
        </p:nvSpPr>
        <p:spPr>
          <a:xfrm>
            <a:off x="4788000" y="2133720"/>
            <a:ext cx="3960720" cy="9349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одылёвский Дом культур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352000" cy="1627200"/>
          </a:xfrm>
          <a:prstGeom prst="rect">
            <a:avLst/>
          </a:prstGeom>
          <a:ln w="0">
            <a:noFill/>
          </a:ln>
        </p:spPr>
      </p:pic>
      <p:pic>
        <p:nvPicPr>
          <p:cNvPr id="328" name="Объект 3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4992480" cy="317016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4"/>
          <p:cNvSpPr/>
          <p:nvPr/>
        </p:nvSpPr>
        <p:spPr>
          <a:xfrm>
            <a:off x="1476360" y="1989000"/>
            <a:ext cx="6480360" cy="9352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агазин «Лукошко» ЧТУП «Дарок» аг. Следюки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5415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тделения почтовой связи – 4;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тделение круглосуточного пребывания – 1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лесничество – 1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ельскохозяйственные организации – 2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омышленное предприятие – 1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9T14:19:55Z</dcterms:created>
  <dc:creator>Алина Кириллова</dc:creator>
  <dc:description/>
  <dc:language>en-US</dc:language>
  <cp:lastModifiedBy>1</cp:lastModifiedBy>
  <dcterms:modified xsi:type="dcterms:W3CDTF">2019-01-23T05:06:21Z</dcterms:modified>
  <cp:revision>61</cp:revision>
  <dc:subject/>
  <dc:title>Следюковский сельсовет</dc:title>
</cp:coreProperties>
</file>